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35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29.wmf" ContentType="image/x-wmf"/>
  <Override PartName="/ppt/media/image11.png" ContentType="image/png"/>
  <Override PartName="/ppt/media/image31.wmf" ContentType="image/x-wmf"/>
  <Override PartName="/ppt/media/image6.wmf" ContentType="image/x-wmf"/>
  <Override PartName="/ppt/media/image36.wmf" ContentType="image/x-wmf"/>
  <Override PartName="/ppt/media/image12.jpeg" ContentType="image/jpeg"/>
  <Override PartName="/ppt/media/image34.jpeg" ContentType="image/jpeg"/>
  <Override PartName="/ppt/media/image38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DEA2-2B3C-458B-9BC3-5AE3675764DE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292-367A-4760-A49D-4559A865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407-CA61-4423-AC94-AA362E62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4A2-7464-4795-B590-A20C8DA2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0F0-7E50-4540-A9A8-7F6AEC40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F35A-35DB-446E-98DE-8F1ED5F5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25C9-B9BA-4C6C-A908-506F1E9C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3D75-0136-40B8-9556-41523866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5628-D711-48ED-A132-3660D275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9131-866F-43C3-BD67-717ECBED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544A-E5B5-4A79-8EA7-C90C4590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105A-930B-4421-930D-A372D228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D814-1312-411D-A81A-03F654A1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73E0-DF78-4AAC-92CD-5FE36939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66E0-D307-4054-8055-FD8C5DF4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7671-7D17-4564-8339-9CF77877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BDAA-74E3-43EC-A4E9-CA6BEA49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EC82-556C-43DF-A140-57969EF0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A8F39-2660-4F5A-BD94-E3DBA3F6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21CA9-3F20-4BDA-AD3D-8C7A0D0A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1CBFD-BC05-457C-9374-F2ED7E05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CFE75-A7CE-49AA-8F76-F9D1A28A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A587D-D870-46CF-A939-3E47EF07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744-8FD9-48F5-AA23-128F3D4F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43531-C64C-4253-8151-61841A6B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9828D-CD10-4AE9-A76D-36CF523B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81D17-2A0C-4142-AE35-0C20CBBD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313D3-71AC-4688-9039-BCF07EBC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CB10-2688-44F0-A3B5-1886CEC0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77FE3-8504-4CA1-8BCD-DCAAF1D7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24A89-9175-42D7-AA73-35FB3DED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BE901-0306-4269-B1EE-081186BC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471DE-EF70-4EF9-AB3C-9E11FD34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B7A08-00CB-4471-9EFC-0A78014A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F6F-A295-49D0-9713-730EAEFD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782D4-0E40-4BCC-97C1-336435B7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FAB4D-80B9-4FE6-BC5C-B169A612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B0EF8-B4E6-4411-A647-38D3EBED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A7BE3-9865-4C26-900F-4DFA2A8B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BCBAC-B4E6-41F1-B2D1-DC8EAA7A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0A630-E1CA-4B79-A033-8C9642DB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4029A-267A-4539-BCDD-F6B37C83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6FABC-C7FD-4081-9673-F6275289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F6547-5F6C-4F49-BEAC-80872C14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77887-66B6-4D8B-8B8A-B81F900C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FC6C-84A2-4390-88FA-BEC9C7C0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87649-E126-43D2-B9FC-63B88A8A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C6275-4C06-45D6-90DA-48BB17D1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74B36-C470-4192-84D7-0FA25789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8CD62-16A1-4FFD-B92C-2AFC0968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A0690-0850-42E8-8D93-57358742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6E57A-50DD-477F-BDDA-040CC1DA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6A8EB-5C53-41A5-892E-D70D3145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3770B-F7E8-4D77-A323-AFF5A226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22965-CFD2-4E82-957D-6338839F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F1014-E220-4DAB-A35F-73F59574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CE6-6A30-4FA1-9B9D-A7C5601F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4EF7A-17C6-4AA4-9011-A51753D7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DC4-6F72-4382-BE5A-3E3CEBF7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197-FE79-438B-A007-70A5A393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9D5-7A65-449D-AC33-F9CA7020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C81D-3953-47C1-BB91-31AE3EA36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3364-25DE-4C16-810F-AE081A0CB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03AE-4A97-48C1-8479-B800CBECD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770E-A996-4790-B5E0-38B9672D5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7550-40C9-4B6C-AE62-41EAFDD58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79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0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87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29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908000" y="115920"/>
            <a:ext cx="7093080" cy="40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PUNO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0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60720" y="71280"/>
            <a:ext cx="6875280" cy="76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40000" y="-2700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10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n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17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6923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CAO POR PRINCIPALES DEPARTAMENTOS 1990-2003 (Miles T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80" y="836640"/>
            <a:ext cx="9142920" cy="6023160"/>
            <a:chOff x="1080" y="836640"/>
            <a:chExt cx="9142920" cy="6023160"/>
          </a:xfrm>
        </p:grpSpPr>
        <p:graphicFrame>
          <p:nvGraphicFramePr>
            <p:cNvPr id="324" name=""/>
            <p:cNvGraphicFramePr/>
            <p:nvPr/>
          </p:nvGraphicFramePr>
          <p:xfrm>
            <a:off x="206280" y="836640"/>
            <a:ext cx="8937720" cy="577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6280" y="836640"/>
                      <a:ext cx="8937720" cy="577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"/>
            <p:cNvSpPr/>
            <p:nvPr/>
          </p:nvSpPr>
          <p:spPr>
            <a:xfrm>
              <a:off x="1080" y="6400800"/>
              <a:ext cx="217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1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219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Pu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ranos (Quinua, Cañihua, Hab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lanta Medici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rutas y Cítric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nes y Derivad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jidos Artesa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a de Ovino y Fibra de Alpa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4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8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2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500"/>
                            </p:stCondLst>
                            <p:childTnLst>
                              <p:par>
                                <p:cTn id="4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0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8600" y="299736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-5400" y="634032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40000" y="-10044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ZINC POR DEPARTAMENTOS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907920"/>
          <a:ext cx="914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-5400" y="643716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LATA POR DEPARTAMENTOS</a:t>
            </a:r>
            <a:br>
              <a:rPr sz="1200"/>
            </a:b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1990-2004*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40" y="907920"/>
          <a:ext cx="914112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907920"/>
                    <a:ext cx="914112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318360"/>
            <a:ext cx="31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47640" y="44280"/>
            <a:ext cx="7596360" cy="93348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VENTA DE BOLETOS TURISTICOS A VISITANTES NACIONALES Y EXTRANJEROS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2002 – jul 2004 (N° DE BOLETO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1080" y="1047600"/>
            <a:ext cx="8832240" cy="5709960"/>
            <a:chOff x="91080" y="1047600"/>
            <a:chExt cx="8832240" cy="5709960"/>
          </a:xfrm>
        </p:grpSpPr>
        <p:grpSp>
          <p:nvGrpSpPr>
            <p:cNvPr id="376" name=""/>
            <p:cNvGrpSpPr/>
            <p:nvPr/>
          </p:nvGrpSpPr>
          <p:grpSpPr>
            <a:xfrm>
              <a:off x="91080" y="1047600"/>
              <a:ext cx="8832240" cy="5709960"/>
              <a:chOff x="91080" y="1047600"/>
              <a:chExt cx="8832240" cy="5709960"/>
            </a:xfrm>
          </p:grpSpPr>
          <p:sp>
            <p:nvSpPr>
              <p:cNvPr id="377" name=""/>
              <p:cNvSpPr/>
              <p:nvPr/>
            </p:nvSpPr>
            <p:spPr>
              <a:xfrm>
                <a:off x="91080" y="6237360"/>
                <a:ext cx="225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uente: OFEC-CUSC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laboración: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inform@cció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78" name=""/>
              <p:cNvGraphicFramePr/>
              <p:nvPr/>
            </p:nvGraphicFramePr>
            <p:xfrm>
              <a:off x="162000" y="1047600"/>
              <a:ext cx="8761320" cy="511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7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2000" y="1047600"/>
                        <a:ext cx="8761320" cy="511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0" name=""/>
            <p:cNvSpPr/>
            <p:nvPr/>
          </p:nvSpPr>
          <p:spPr>
            <a:xfrm>
              <a:off x="1733400" y="1736640"/>
              <a:ext cx="67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2                                           2003                          200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225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235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239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979640" y="44280"/>
            <a:ext cx="7164360" cy="7750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-7668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PRODUCCION DE PETROLEO POR ZONA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1975 – 2004* (Miles de barri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340320"/>
            <a:ext cx="32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* Datos al mes de julio del 200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981000"/>
          <a:ext cx="9220320" cy="523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1000"/>
                    <a:ext cx="922032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901880" y="907920"/>
            <a:ext cx="985680" cy="762120"/>
          </a:xfrm>
          <a:prstGeom prst="downArrowCallout">
            <a:avLst>
              <a:gd name="adj1" fmla="val 32336"/>
              <a:gd name="adj2" fmla="val 32333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019240"/>
            <a:ext cx="1008000" cy="833400"/>
          </a:xfrm>
          <a:prstGeom prst="downArrowCallout">
            <a:avLst>
              <a:gd name="adj1" fmla="val 30240"/>
              <a:gd name="adj2" fmla="val 3023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64440" y="2612880"/>
            <a:ext cx="979560" cy="74484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3968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62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1127160"/>
          <a:ext cx="9163080" cy="52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7160"/>
                    <a:ext cx="91630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-1800" y="65088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50560" y="-27360"/>
            <a:ext cx="70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ENERGIA ELECTRICA A NIVEL NACIONAL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1985-2004* (Miles GWH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68600" y="2306520"/>
            <a:ext cx="1066680" cy="762120"/>
          </a:xfrm>
          <a:prstGeom prst="downArrowCallout">
            <a:avLst>
              <a:gd name="adj1" fmla="val 34994"/>
              <a:gd name="adj2" fmla="val 34991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30840" y="1268280"/>
            <a:ext cx="1067040" cy="762120"/>
          </a:xfrm>
          <a:prstGeom prst="downArrowCallout">
            <a:avLst>
              <a:gd name="adj1" fmla="val 35005"/>
              <a:gd name="adj2" fmla="val 35002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15:46:07Z</dcterms:modified>
  <cp:revision>1157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2352501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